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ct" ContentType="image/x-pict"/>
  <Override PartName="/ppt/media/image5.pct" ContentType="image/x-pict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ACEA-2C7C-4AB3-8CEF-0E6428E38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00C-23BD-46F3-871B-B4C09347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9D2A-9671-48AD-855E-A72A97A1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B108-B4AC-46EE-837C-4FDA21541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464E-70A2-4BE9-9B1D-8DA16C58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E287-2571-4E16-B9F4-F8A1449A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9A65-C8AF-4529-8DDB-2B0C27B8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6EEF-4F1E-4D5D-ACB5-ECAD8189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37D7-841B-4619-AEDE-21C6FAEC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B97E-7A85-4F92-9B91-BFEB218E0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CBE8-8907-4B7A-A05A-A65C1F45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E3FA-AED2-4BDE-8B64-F0241D9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64f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a5c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a5c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a5cd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6a5c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6a5c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6a5c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6a5cd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a5cd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a5cd5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a5cd5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a5cd5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a5cd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B886E-0A62-48A5-A22F-BFFF83B7107F}" type="slidenum">
              <a:rPr b="0" lang="en-US" sz="1400" spc="-1" strike="noStrike">
                <a:solidFill>
                  <a:srgbClr val="6a5cd5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d64f4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5d64f4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By.Alexus Ragan</a:t>
            </a:r>
            <a:endParaRPr b="0" lang="en-US" sz="3200" spc="-1" strike="noStrike">
              <a:solidFill>
                <a:srgbClr val="6a5cd5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a5cd5"/>
                </a:solidFill>
                <a:latin typeface="Arial"/>
              </a:rPr>
              <a:t>7</a:t>
            </a:r>
            <a:r>
              <a:rPr b="0" lang="en-US" sz="2800" spc="-1" strike="noStrike" baseline="50000">
                <a:solidFill>
                  <a:srgbClr val="6a5cd5"/>
                </a:solidFill>
                <a:latin typeface="Arial"/>
              </a:rPr>
              <a:t>th </a:t>
            </a:r>
            <a:r>
              <a:rPr b="0" lang="en-US" sz="2800" spc="-1" strike="noStrike">
                <a:solidFill>
                  <a:srgbClr val="6a5cd5"/>
                </a:solidFill>
                <a:latin typeface="Arial"/>
              </a:rPr>
              <a:t>Period</a:t>
            </a:r>
            <a:endParaRPr b="0" lang="en-US" sz="2800" spc="-1" strike="noStrike">
              <a:solidFill>
                <a:srgbClr val="6a5cd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739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a800"/>
                </a:solidFill>
                <a:latin typeface="Kino MT"/>
              </a:rPr>
              <a:t>About 11,000 kilometers east,halfway between Hawaii and Fiji, lies the little known nation of Kiribati</a:t>
            </a:r>
            <a:endParaRPr b="0" lang="en-US" sz="3800" spc="-1" strike="noStrike">
              <a:solidFill>
                <a:srgbClr val="5d64f4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114800" y="2819520"/>
            <a:ext cx="28512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95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69696"/>
                </a:solidFill>
                <a:latin typeface="Herculanum"/>
              </a:rPr>
              <a:t>Kiribati gained scientific notice when it recently set aside more than one-tenth of its territory to establish the worlds largest marine preserve harboring one the last pristine coral reef ecosystems.</a:t>
            </a:r>
            <a:endParaRPr b="0" lang="en-US" sz="2600" spc="-1" strike="noStrike">
              <a:solidFill>
                <a:srgbClr val="5d64f4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495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07:05Z</dcterms:created>
  <dc:creator>PA Department of Education</dc:creator>
  <dc:description/>
  <dc:language>en-US</dc:language>
  <cp:lastModifiedBy>PA Department of Education</cp:lastModifiedBy>
  <dcterms:modified xsi:type="dcterms:W3CDTF">2009-05-21T17:41:54Z</dcterms:modified>
  <cp:revision>1</cp:revision>
  <dc:subject/>
  <dc:title>First Wave</dc:title>
</cp:coreProperties>
</file>